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E4BE-1F3A-4D37-9E01-94F740E25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0669-9EF8-4E14-8C02-A5ADCFC4E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7E19-24D7-4D31-BC54-2AE0A3C02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E9AB-354D-49ED-9B85-4B227E146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644C-9CCC-4D27-B5E0-48A527C77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09A6-5E6E-4B71-85F6-0449C6D2F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3689-1ABB-4130-B401-75FB8C0CC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045D-BB90-4D3E-B69D-17E353EAD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7A8E-9158-49CE-89FD-383D47825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A90F-207D-44CB-B3CC-5BFC405C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2133-AC8E-47D4-BD0F-9CAD0CEC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F88E-2E18-4EF4-A24D-E053A83E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4F362-3B71-4E59-88ED-C4E8D1CDB6D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SIP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880280" y="1828800"/>
            <a:ext cx="86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2308320" y="20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1869840" y="2263680"/>
            <a:ext cx="9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Head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11640" y="228600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2028240" y="3078000"/>
            <a:ext cx="61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Stac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2117520" y="348948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U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1896840" y="385452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Dialogu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1796760" y="429732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Transac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925640" y="467820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814760" y="2666880"/>
            <a:ext cx="103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1588680" y="50594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Mak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5009040" y="2620800"/>
            <a:ext cx="84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Ua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272840" y="3078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6016320" y="307800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240080" y="3489480"/>
            <a:ext cx="109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3868200" y="3916440"/>
            <a:ext cx="182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4179240" y="4373640"/>
            <a:ext cx="124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5782320" y="3489480"/>
            <a:ext cx="160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5849280" y="3946680"/>
            <a:ext cx="150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6150600" y="4403880"/>
            <a:ext cx="92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5305680" y="52880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7449120" y="3505320"/>
            <a:ext cx="138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Timer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2895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3276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411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4495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438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438280" y="3733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438280" y="4114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05320" y="27428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27432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800600" y="28954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28954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33526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4008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7315200" y="380988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46483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790960" y="464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586728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556272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31240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3200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28954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INVI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36957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15238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CANCEL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276720" y="1676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31240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_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324480" y="14475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276720" y="144792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l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781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3733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40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3809880"/>
            <a:ext cx="761760" cy="228600"/>
          </a:xfrm>
          <a:custGeom>
            <a:avLst/>
            <a:gdLst>
              <a:gd name="textAreaLeft" fmla="*/ 0 w 761760"/>
              <a:gd name="textAreaRight" fmla="*/ 762120 w 7617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End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638320" y="38862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78132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3657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4267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HAS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124080" y="3505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754380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580920" y="434340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792468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8305920" y="3200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858000" y="54100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990720" y="60199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990720" y="35049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57531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601992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rot="10800000">
            <a:off x="5333760" y="31240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952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25909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572000" y="2819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57200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16002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3124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809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2971800"/>
            <a:ext cx="10670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361960" y="3200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36576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14857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_OU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1828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1752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1828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10285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 rot="16200000">
            <a:off x="876240" y="27810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219320" y="1523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1371600"/>
            <a:ext cx="14479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 on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1371600"/>
            <a:ext cx="1371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87 on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1523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2819520" y="1523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4495680" y="1447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rot="5400000">
            <a:off x="1447920" y="38098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752480" y="6019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5715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6477120" y="37339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426708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51814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7543800" y="51814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7238880" y="5257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685764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2590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4800600"/>
            <a:ext cx="91440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129528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2666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590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27432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629400" y="1752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617184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48006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5638680" y="4876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5181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563868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2590920" y="52578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0958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7391520" y="1447560"/>
            <a:ext cx="0" cy="464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 rot="16200000">
            <a:off x="6286320" y="4380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35812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629400" y="3809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67816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10080" y="27428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124080" y="228600"/>
            <a:ext cx="31244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259092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1905120" y="1295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7391520" y="144756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2590920" y="525780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4800600" y="4724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4495680" y="41144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4724280" y="3886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5410080" y="38098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>
            <a:off x="5410080" y="39625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590920" y="28195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>
            <a:off x="1447920" y="2971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0" y="3048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2209680" y="23619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2057400" y="1447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66688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>
            <a:off x="2819520" y="1676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2781360" y="24760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12408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200400" y="3048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rot="5400000">
            <a:off x="23238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 rot="5400000">
            <a:off x="27810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39625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50292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266688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895480" y="3352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6248520" y="15238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18288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3886200" y="1828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114800" y="48006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 rot="16200000">
            <a:off x="3809880" y="43434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3657600" y="34290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4267080" y="3657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419720" y="3657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 rot="10800000">
            <a:off x="3657240" y="525744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276720" y="56386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365760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4114800" y="5791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495680" y="533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4952880" y="4876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495288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5638680" y="5105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781680" y="205704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638680" y="4952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200400" y="228600"/>
            <a:ext cx="31240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2514600" y="2286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295280" y="24382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22096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3124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rot="5400000">
            <a:off x="2247480" y="300996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6172200" y="22860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3809880" y="2590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3581280" y="4495680"/>
            <a:ext cx="8384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2590920" y="3429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590920" y="48006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 rot="16200000">
            <a:off x="3238200" y="400032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3352680" y="304812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37339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3886200" y="3276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 rot="5400000">
            <a:off x="3314520" y="5219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365760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886200" y="5028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4419720" y="4724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 rot="16200000">
            <a:off x="5753160" y="186660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>
            <a:off x="5867280" y="91440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624852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400800" y="11430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4267080" y="4952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6248520" y="53341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 rot="5400000">
            <a:off x="6286320" y="308592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J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 rot="5400000">
            <a:off x="6514920" y="300960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6629400" y="3505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4952880" y="5029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105520" y="2742840"/>
            <a:ext cx="12952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6T10:47:16Z</dcterms:created>
  <dc:creator>gom</dc:creator>
  <dc:description/>
  <dc:language>en-US</dc:language>
  <cp:lastModifiedBy>gom</cp:lastModifiedBy>
  <dcterms:modified xsi:type="dcterms:W3CDTF">2006-08-05T07:45:54Z</dcterms:modified>
  <cp:revision>3</cp:revision>
  <dc:subject/>
  <dc:title>PowerPoint 프레젠테이션</dc:title>
</cp:coreProperties>
</file>